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64" spc="-1" strike="noStrike">
                <a:solidFill>
                  <a:srgbClr val="000000"/>
                </a:solidFill>
                <a:latin typeface="Arial"/>
              </a:defRPr>
            </a:pPr>
            <a:r>
              <a:rPr b="0" sz="1264" spc="-1" strike="noStrike">
                <a:solidFill>
                  <a:srgbClr val="000000"/>
                </a:solidFill>
                <a:latin typeface="Arial"/>
              </a:rPr>
              <a:t>MARIA JOSE</a:t>
            </a:r>
          </a:p>
        </c:rich>
      </c:tx>
      <c:layout>
        <c:manualLayout>
          <c:xMode val="edge"/>
          <c:yMode val="edge"/>
          <c:x val="0.439864572260935"/>
          <c:y val="0.02021066491112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83344305464121"/>
          <c:w val="0.959804732097162"/>
          <c:h val="0.7959842001316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aria José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35</c:v>
                </c:pt>
                <c:pt idx="1">
                  <c:v>18.54</c:v>
                </c:pt>
                <c:pt idx="2">
                  <c:v>37.66</c:v>
                </c:pt>
                <c:pt idx="3">
                  <c:v>22.73</c:v>
                </c:pt>
                <c:pt idx="4">
                  <c:v>50.78</c:v>
                </c:pt>
                <c:pt idx="5">
                  <c:v>60.63</c:v>
                </c:pt>
                <c:pt idx="6">
                  <c:v>97.56</c:v>
                </c:pt>
                <c:pt idx="7">
                  <c:v>84.57</c:v>
                </c:pt>
              </c:numCache>
            </c:numRef>
          </c:val>
        </c:ser>
        <c:gapWidth val="100"/>
        <c:overlap val="0"/>
        <c:axId val="70622989"/>
        <c:axId val="28197455"/>
      </c:barChart>
      <c:catAx>
        <c:axId val="7062298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97455"/>
        <c:crossesAt val="0"/>
        <c:auto val="1"/>
        <c:lblAlgn val="ctr"/>
        <c:lblOffset val="100"/>
        <c:noMultiLvlLbl val="0"/>
      </c:catAx>
      <c:valAx>
        <c:axId val="28197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298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16" spc="-1" strike="noStrike">
                <a:solidFill>
                  <a:srgbClr val="000000"/>
                </a:solidFill>
                <a:latin typeface="Arial"/>
              </a:defRPr>
            </a:pPr>
            <a:r>
              <a:rPr b="0" sz="2016" spc="-1" strike="noStrike">
                <a:solidFill>
                  <a:srgbClr val="000000"/>
                </a:solidFill>
                <a:latin typeface="Arial"/>
              </a:rPr>
              <a:t>MARIA JOSÉ 2008</a:t>
            </a:r>
          </a:p>
        </c:rich>
      </c:tx>
      <c:layout>
        <c:manualLayout>
          <c:xMode val="edge"/>
          <c:yMode val="edge"/>
          <c:x val="0.382307783158143"/>
          <c:y val="0.01967213114754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417385142317"/>
          <c:y val="0.163651780667044"/>
          <c:w val="0.804023463643164"/>
          <c:h val="0.79604296212549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0</c:v>
                </c:pt>
                <c:pt idx="1">
                  <c:v>205</c:v>
                </c:pt>
                <c:pt idx="2">
                  <c:v>154</c:v>
                </c:pt>
                <c:pt idx="3">
                  <c:v>176</c:v>
                </c:pt>
                <c:pt idx="4">
                  <c:v>6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42</c:v>
                </c:pt>
                <c:pt idx="1">
                  <c:v>38</c:v>
                </c:pt>
                <c:pt idx="2">
                  <c:v>58</c:v>
                </c:pt>
                <c:pt idx="3">
                  <c:v>40</c:v>
                </c:pt>
                <c:pt idx="4">
                  <c:v>178</c:v>
                </c:pt>
              </c:numCache>
            </c:numRef>
          </c:val>
        </c:ser>
        <c:gapWidth val="100"/>
        <c:overlap val="0"/>
        <c:axId val="63882413"/>
        <c:axId val="22581152"/>
      </c:barChart>
      <c:catAx>
        <c:axId val="638824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81152"/>
        <c:crossesAt val="0"/>
        <c:auto val="1"/>
        <c:lblAlgn val="ctr"/>
        <c:lblOffset val="100"/>
        <c:noMultiLvlLbl val="0"/>
      </c:catAx>
      <c:valAx>
        <c:axId val="22581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8241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06125743081"/>
          <c:y val="0.38275862068965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4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927" spc="-1" strike="noStrike">
                <a:solidFill>
                  <a:srgbClr val="000000"/>
                </a:solidFill>
                <a:latin typeface="Arial"/>
              </a:defRPr>
            </a:pPr>
            <a:r>
              <a:rPr b="0" sz="1927" spc="-1" strike="noStrike">
                <a:solidFill>
                  <a:srgbClr val="000000"/>
                </a:solidFill>
                <a:latin typeface="Arial"/>
              </a:rPr>
              <a:t>MARIA JOSÉ 2009</a:t>
            </a:r>
          </a:p>
        </c:rich>
      </c:tx>
      <c:layout>
        <c:manualLayout>
          <c:xMode val="edge"/>
          <c:yMode val="edge"/>
          <c:x val="0.38278020550372"/>
          <c:y val="0.0198811834597965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8023699854336"/>
          <c:y val="0.169931180518793"/>
          <c:w val="0.804771465690327"/>
          <c:h val="0.78960061172872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8</c:v>
                </c:pt>
                <c:pt idx="1">
                  <c:v>127</c:v>
                </c:pt>
                <c:pt idx="2">
                  <c:v>164</c:v>
                </c:pt>
                <c:pt idx="3">
                  <c:v>162</c:v>
                </c:pt>
                <c:pt idx="4">
                  <c:v>58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65</c:v>
                </c:pt>
                <c:pt idx="1">
                  <c:v>77</c:v>
                </c:pt>
                <c:pt idx="2">
                  <c:v>160</c:v>
                </c:pt>
                <c:pt idx="3">
                  <c:v>137</c:v>
                </c:pt>
                <c:pt idx="4">
                  <c:v>439</c:v>
                </c:pt>
              </c:numCache>
            </c:numRef>
          </c:val>
        </c:ser>
        <c:gapWidth val="100"/>
        <c:overlap val="0"/>
        <c:axId val="50087112"/>
        <c:axId val="54817684"/>
      </c:barChart>
      <c:catAx>
        <c:axId val="500871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17684"/>
        <c:crossesAt val="0"/>
        <c:auto val="1"/>
        <c:lblAlgn val="ctr"/>
        <c:lblOffset val="100"/>
        <c:noMultiLvlLbl val="0"/>
      </c:catAx>
      <c:valAx>
        <c:axId val="54817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871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573048305185"/>
          <c:y val="0.37709546497264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86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920ED-7B59-44EA-886F-BDF2FB0D06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03320" y="695160"/>
            <a:ext cx="48481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470-3C4C-48C1-A2AA-BBB26BD5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A8B-614C-4966-B3D2-5B7F7106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B59-1A60-46A3-8EF1-8E32C7C1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42F-7690-4EE8-8270-2B96B33F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237-D3ED-4D91-8450-515A7D1E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700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8720" y="2203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700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8720" y="4345560"/>
            <a:ext cx="27345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4A4-A036-4720-BE09-31FABC4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E12-2512-4778-98B6-3E89FE47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B01-FED7-4911-817A-28D59652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42840"/>
            <a:ext cx="705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D93-39D6-4762-AFF2-420BC6CE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153-F919-4DA6-9FC8-5B55E507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7320" y="4345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D4F-FB6F-4856-A518-E47ED05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7320" y="2203560"/>
            <a:ext cx="41443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5560"/>
            <a:ext cx="849312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181-E4A7-4444-A7FD-D9B62AFC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200" y="6435360"/>
            <a:ext cx="1157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9/07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560" y="6435360"/>
            <a:ext cx="52531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280" y="6435360"/>
            <a:ext cx="5349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A154-B6FE-4514-9D13-AA9BA8BA13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42840"/>
            <a:ext cx="705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2203560"/>
            <a:ext cx="849312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home/welitton/Documentos/segundo%20semestre%2009/Reuni&#245;es/Cronograma%20-%20PNTE.doc" TargetMode="External"/><Relationship Id="rId3" Type="http://schemas.openxmlformats.org/officeDocument/2006/relationships/hyperlink" Target="file:///home/welitton/Documentos/segundo%20semestre%2009/Reuni&#245;es/Cronograma%20-%20PSTE.doc" TargetMode="External"/><Relationship Id="rId4" Type="http://schemas.openxmlformats.org/officeDocument/2006/relationships/hyperlink" Target="file:///home/welitton/Documentos/segundo%20semestre%2009/Reuni&#245;es/Cronograma%20-%20completo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2000" y="1197000"/>
            <a:ext cx="64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MARIA JOSÉ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NAURILÂNDIA - 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30064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920" y="-63360"/>
            <a:ext cx="70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ados con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900000"/>
          <a:ext cx="9144000" cy="5467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367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94" name=""/>
          <p:cNvSpPr/>
          <p:nvPr/>
        </p:nvSpPr>
        <p:spPr>
          <a:xfrm>
            <a:off x="2286000" y="979560"/>
            <a:ext cx="5878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s disponíveis e execu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20720" y="6300720"/>
            <a:ext cx="521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9280"/>
          <a:ext cx="9144000" cy="612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9280" y="-322200"/>
            <a:ext cx="70567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22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plano deve conter no máximo 3 aulas, mai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rofessor da STE seja questionado e não souber orientar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, os mesmos se comprometerão em buscar apoio junto 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 do 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ronograma de ação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70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-52560"/>
            <a:ext cx="7056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080" y="1693800"/>
            <a:ext cx="755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ONOGRAMA DO PLANO DA EE MARIA J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28600" y="2160720"/>
            <a:ext cx="8771040" cy="4498920"/>
            <a:chOff x="228600" y="2160720"/>
            <a:chExt cx="8771040" cy="4498920"/>
          </a:xfrm>
        </p:grpSpPr>
        <p:sp>
          <p:nvSpPr>
            <p:cNvPr id="100" name=""/>
            <p:cNvSpPr/>
            <p:nvPr/>
          </p:nvSpPr>
          <p:spPr>
            <a:xfrm>
              <a:off x="228600" y="2160720"/>
              <a:ext cx="28623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CUR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90960" y="2160720"/>
              <a:ext cx="914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BR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5360" y="2160720"/>
              <a:ext cx="1065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MA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70600" y="2160720"/>
              <a:ext cx="1141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JUN/J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11800" y="2160720"/>
              <a:ext cx="1065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AGO/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77040" y="2160720"/>
              <a:ext cx="9907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OUT/NO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67760" y="2160720"/>
              <a:ext cx="7300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DE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" y="2517840"/>
              <a:ext cx="286236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Wikispaces/Movie Maker/Sca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0960" y="2517840"/>
              <a:ext cx="91440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5360" y="2517840"/>
              <a:ext cx="106524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70600" y="2517840"/>
              <a:ext cx="114120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11800" y="2517840"/>
              <a:ext cx="106524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77040" y="2517840"/>
              <a:ext cx="99072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67760" y="2517840"/>
              <a:ext cx="730080" cy="35568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873520"/>
              <a:ext cx="28623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Data/Show Power Point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uso do Data Sh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omo montar e criar uma apresentação no Power Poi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90960" y="2873520"/>
              <a:ext cx="91440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05360" y="2873520"/>
              <a:ext cx="106524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0600" y="2873520"/>
              <a:ext cx="114120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11800" y="2873520"/>
              <a:ext cx="106524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7040" y="2873520"/>
              <a:ext cx="99072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67760" y="2873520"/>
              <a:ext cx="7300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" y="4105440"/>
              <a:ext cx="286236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Internet – E-mail – Blog – Orkut :  uso do Orkut como ferramenta pedagógic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0960" y="4105440"/>
              <a:ext cx="91440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5360" y="4105440"/>
              <a:ext cx="106524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70600" y="4105440"/>
              <a:ext cx="114120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1800" y="4105440"/>
              <a:ext cx="106524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7040" y="4105440"/>
              <a:ext cx="99072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7760" y="4105440"/>
              <a:ext cx="730080" cy="7016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4807080"/>
              <a:ext cx="2862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ndows XP, Digitação, Microsoft Word, Microsoft 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0960" y="4807080"/>
              <a:ext cx="914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05360" y="4807080"/>
              <a:ext cx="1065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70600" y="4807080"/>
              <a:ext cx="11412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1800" y="4807080"/>
              <a:ext cx="1065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77040" y="4807080"/>
              <a:ext cx="990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7760" y="4807080"/>
              <a:ext cx="730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5510160"/>
              <a:ext cx="286236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Linux Educacional – para inicia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90960" y="5510160"/>
              <a:ext cx="91440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05360" y="5510160"/>
              <a:ext cx="106524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70600" y="5510160"/>
              <a:ext cx="114120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11800" y="5510160"/>
              <a:ext cx="106524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77040" y="5510160"/>
              <a:ext cx="99072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7760" y="5510160"/>
              <a:ext cx="730080" cy="357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5867280"/>
              <a:ext cx="28623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Portfólio: A arte de criar um portfólio usando os aplicativos - Print Artist, Power Point e Movie Mak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90960" y="5867280"/>
              <a:ext cx="9144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05360" y="5867280"/>
              <a:ext cx="10652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70600" y="5867280"/>
              <a:ext cx="11412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11800" y="5867280"/>
              <a:ext cx="10652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77040" y="5867280"/>
              <a:ext cx="9907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7760" y="5867280"/>
              <a:ext cx="7300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2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096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0536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7060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1800" y="2160720"/>
              <a:ext cx="180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7040" y="2160720"/>
              <a:ext cx="180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6776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2517840"/>
              <a:ext cx="8769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00" y="287352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410544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" y="480708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" y="5510160"/>
              <a:ext cx="8769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5867280"/>
              <a:ext cx="8769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2160720"/>
              <a:ext cx="144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997840" y="2160720"/>
              <a:ext cx="1800" cy="449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" y="2160720"/>
              <a:ext cx="876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" y="6657840"/>
              <a:ext cx="8769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2203560"/>
            <a:ext cx="84978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fessores Rubens, Luciano e Silv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189000"/>
            <a:ext cx="705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2276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94172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720720"/>
            <a:ext cx="914400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03280" y="-179280"/>
            <a:ext cx="705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71720" y="507204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13372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5157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03280" y="9360"/>
            <a:ext cx="7056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71760" y="4929120"/>
            <a:ext cx="3000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25653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4869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189000"/>
            <a:ext cx="7056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 Multiplicador 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680" y="471492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276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5157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00:53:38Z</dcterms:created>
  <dc:creator>Luciana Catarino</dc:creator>
  <dc:description/>
  <dc:language>en-US</dc:language>
  <cp:lastModifiedBy>Luciana Catarino</cp:lastModifiedBy>
  <dcterms:modified xsi:type="dcterms:W3CDTF">2009-07-28T20:01:25Z</dcterms:modified>
  <cp:revision>24</cp:revision>
  <dc:subject/>
  <dc:title>EE BRAZ SINIGÁGLIA BATAYPORÃ - MS</dc:title>
</cp:coreProperties>
</file>